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F483-D164-4A0D-A232-4D7A43B4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F34D-DE43-49FE-9D60-881FF08F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461B4-C72A-442C-8534-A6E6EEDE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EE4B5-9FF0-42E3-A7BC-9A57886B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A9B9F-6662-433C-9F03-2F515405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0F706-091A-4492-A113-29193AF2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B76C2-37F6-41CE-99BA-2459077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5BB3F-D053-4D70-8B64-E164E54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80922-2041-46D7-B1A6-70A399F7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67C1B-46AD-437C-9DCF-E6A3BDA8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D4948-BAC2-4E5C-AD40-1BEB367C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86474D-879E-4361-9772-EBA17D8C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2BC9-8927-41BF-907B-5DD2BE53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CFDF48-C143-4049-9E09-5A9AEAD0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9ED6DE-16CB-43DA-80BD-77D54C43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AE5EC1-B6C2-4F39-BE03-FF89D0EA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18386D-C8A3-4901-B865-2264E829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830003-1776-4249-92B3-1F5E03A9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6E8552-3D55-4550-8967-49983986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DE1419-C120-4E7A-9CB4-F1A04909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75E8B7-D4AD-422C-AD80-B627FBF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2E39F6-996C-4D53-AD2F-69639A2A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AF3904-D13A-4673-A038-8B2B6BA1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4661-5D03-4509-B761-30A9C5C0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C7DA28-EDD8-4FEF-9709-D074F50C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2472E-3A73-4778-860C-C90D899C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EF0D9-EDAC-4466-ACE9-864B2617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10BFF-311A-4195-9D30-F95CF765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3EFA8-43F7-4DAB-B62F-67BE0C18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ECBD7-E028-4395-ADEC-6D09BA7D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90BA9-E37E-4D73-9259-5A4B24F0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98997-3B9B-480F-94E8-053E9B55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BB39E-79D0-4964-BFEE-69046E4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DDA9F-E1F5-4FF5-BEDA-C3F244E4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AADF-48E4-41E3-A3DE-9089D4BB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16D24-724E-4F11-AD31-D6F4E20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7C49D-477A-4B51-90CD-DC6F4B97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0E13F-7109-45A8-AB85-C987DE82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739EB-1833-4F62-BC66-68CD1524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9D413-F195-4059-A83C-04E418FA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016D1-DD29-4794-A8A6-FA1DD112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407C9-0CB3-4594-93E9-7BEC7F53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9996D-6FAD-4514-B251-0A80081A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104B3-1EB8-4EF3-921C-99212B55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3D258-DC44-4E9D-9557-FBC952AD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C26D-2827-42C3-A32E-D49939CC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3C176-49BD-487F-94D2-59B34BF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74B27-73A9-447E-933F-528C4209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E55B7-2BB8-4F32-BC44-9CD88791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779F1-AF05-4C8F-87D8-9D94F2E6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4B23D-A80A-42D9-BED5-53071ABE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4D554-42F0-49DD-8AC5-1B253ED4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28E67-2491-47AD-BA03-9AA564D5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AA815-3EC4-4235-AAA8-AEAD0036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B9ED1-D5B5-480F-A42F-DCF47955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49CE7-F2E7-4157-A916-7E198628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1EB0-C8B1-46B3-BF21-FC11ACEF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62603-5DE0-41BD-8F6A-4BA09110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E55A1-33ED-4552-A894-2F37B899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80EEF-25E7-4AB9-AA0A-8A9A57B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01802-8153-4F17-A9DA-66DA697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64144-20E7-4BFB-AEFA-03E7CE2F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B91D4-F7F5-4CC2-981D-C2709AB3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0591A-952D-49DA-ADED-7A0499E6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179E5-832C-4844-AF2F-A3AF01DC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787CF-7844-4BBA-8697-DB5C460E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F7E2A-2B2A-45A8-8203-53D12D0F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DD68-48F0-4F0A-9C01-7FA8BD27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83469-873C-4C13-AD94-26204AA2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DF043-79A4-44BC-9039-D1A92EBD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42D8A-FFE3-47B3-B0B0-928218D9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22488-45BD-41F4-BC6D-ADB6DE2E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859D7-C9E3-4F89-A821-7ABB0C69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DFFAC-0095-4D09-B45E-D965F4D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41BAF-766A-4CF4-954F-F41120A6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446E9-DAF7-4545-A24A-48F114E6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BA6D8-CA47-4FC2-B19A-67B74156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2D1A-B292-4941-984E-80F730D2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8645-5DF4-4F55-8CE2-859F72E2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78A4-12CE-415A-BEFE-9695678D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2B80-74E4-4CAB-91B7-C3FEA0E2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B97B-A36D-4C46-A8CB-A05034F7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1DF3-42DE-4178-B14F-0ECE3FBF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98EA-009B-49F6-BC65-B4462B21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6D8B-DAEA-4711-9AF1-6287E70B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DD4B-B553-4F5A-9500-E4A05D82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8943-BA12-4151-8F26-4883D3CB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C140-D0B4-463E-8485-E7BAC405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EEFF-FFEB-4F92-8610-E1236104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3C554-49EF-4F3C-AB8B-B5803E05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790E-124F-464A-A298-F07A77B9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47AC-2029-422D-8FB1-7E9DD4BC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157B-DBCD-4E41-90AF-ADC109FF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C5C5-736A-4279-B47E-D45EFE7C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F97B-186D-43CB-8565-C686301E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A2674-2B8D-49F3-8916-AF0EFD8E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2F03-D153-4644-BCA5-9C7EACA2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ACFC-35E3-4DE6-A3BD-A4F96C72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FB15-2A4C-4091-9DF1-24C602D8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000BF-A3ED-4FCF-AB9C-55D71F23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8FD1F8-822A-48F2-9151-B1510321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9DC1D-560A-4BED-A326-03FFEBE5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2306-B63F-4B73-A9C7-5B08FCA4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B3615-EED8-4A4B-96CD-8A748BB9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E351A-421B-4363-B818-8DCC8479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F1F9C-8874-41B6-89C5-6A1723AF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E303F-441D-4DD6-A161-8508793C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12483E-2CA9-400B-B8AA-0518CF80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1AA0D-66FD-436E-A171-83BDC65B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34EB3-3BD8-4547-A014-740CE7A9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28EB1-1AE1-4287-A6BD-895E9C2A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2C48D-497D-442A-9DDF-43E25033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7AD8D-68DC-4C4F-B2D0-B1CD434F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ED36-D534-4B51-8DDD-EC15141A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F3712-A240-404F-A6B6-6333B98F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23C0B-1B88-4A6C-BCF2-0F30BA87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559B-20A8-4D92-9CC2-63CECA0B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27A72-6268-4D16-B152-09B470D2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CBD43-C444-4CB2-8BA2-8A2DCBFD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95B34-3AE6-45A8-9160-7C983CF2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65AD3-4B69-4DD7-80B7-0CE7C668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0201D-E837-4C29-87C7-F6D4B9A2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F797B-9816-4F33-A214-B16DD7C0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7186A-0835-4D60-82F2-B7157732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FA91-EC03-4ACE-9B49-62B6EC30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1E23-22A8-4774-9499-FFCD19B5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95215-5066-435D-BC0F-01DC7644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6BBAE-361C-42EC-BC32-79CC0DBA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707E3-9D44-4647-AEFA-74111339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F821-1F83-4D7F-8BE1-DB7862A8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CAA0E-D28C-4D0C-8FA3-2D19823C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0F12E-0D13-4BEB-83EE-345A99AA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2A27B-0A58-47A3-90CA-EFAEFB7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B9B2B-C7B7-40B1-BCEC-B1E2280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4332B-5A88-4C1D-9107-67298BBD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FEE2-6CE3-4385-AA1E-1DD95CC0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98E73-F201-4179-9B8E-F1CF8B73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71B26-C1E6-4FE9-9401-6809C7FC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F970F-1E82-41F9-9D31-A35F2752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E2159-CD0D-45FE-8785-317EE3E6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06145-2CD0-4914-B320-FF3C5C44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F4016-FC2C-4EE4-9554-6CF86BC4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D21CF-055D-4505-8921-FEC06F3C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FBC75-2471-483E-9E22-47003A26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76312-C395-415B-B8E9-4024051B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56C0D-CF4C-4C28-BD4F-343D755B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81AC-CBCB-4149-BF12-C4A8D199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0E043-0969-44BA-8E0A-A36B5E69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4DA31-CB09-41E5-BD1D-DC7024FC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0444-13FE-4F5C-B391-7A5F2A76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41527-F9BC-409E-B8C8-EBF3BDB5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04E1C-7E5C-4B92-B2C4-A07250F0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82B3C-1A2E-43B5-A375-C956D0B0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8C20C-95DB-4F3E-9EA8-CD0CC4BB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E0102-A064-4300-A02E-1CA4AF2E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E7B38-F74D-453A-8AF8-E1489559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67BA1-0DC7-40AE-9C25-5B300D35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037F-A0D8-434C-B1BA-ED1C4024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66924-4E84-401F-8610-5652C2BE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3015B-A1C6-40BA-B25B-98A738F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92D7E-E2D1-4D1D-A799-269E599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1DA7A-840A-40E4-84E4-2ECBCF0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F44FB-70E9-40FC-A8BE-5E0F04D1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FACC4-1F7D-4565-9574-24BC7B64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77AC3-F154-41D8-92FB-EFFEA63A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6E86F-0DBA-4E78-B450-DEB9F1D1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5A5A2-331B-4D3C-BB59-D8CD668C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53815-066F-44D4-9ABC-04C7E992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A58E-3207-4066-B4EC-E2439633DA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3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4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4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FF63-A82D-4D9E-A22C-91943249E1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9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2780-A2E7-418F-99C1-92D19142F0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4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7661-DDD1-497F-B1CB-D14CA90F25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8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0D61-0E9F-4B69-AE13-34F2BE4110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6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5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2352-30DE-427B-9688-0CC73FC8CC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4699-CD41-48B7-9477-A0D6F19960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6506-F41A-4305-A1DA-64671FE54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E29A-82F5-42E3-945A-A5E2BC631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0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70B1-B94F-4419-B493-1C1437D3373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8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0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D890-9D77-4D2F-9F7A-E06F2633C0D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5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6DA-9DD6-43E2-9E53-3431C1878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42DF-C903-405B-AD48-4D4A32311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8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9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DAC3-B3CE-49D6-AC53-9B668680EC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 Rutin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Eliomar Ortiz and Miguel McG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Mana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 n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evan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seguida. El es muy cansado. Jose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cues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ar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2514600" y="3352680"/>
            <a:ext cx="3505320" cy="281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Desayun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mas s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desayuna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El esta comiendo un rosquilla y esta tomando lech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3352680" y="4264200"/>
            <a:ext cx="2590920" cy="175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va los dien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an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va los dien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El u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 cepillo de dien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 tubo de pasta dentifr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971800" cy="1885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uchar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uel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uc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El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va la pel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 cara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 cuerpo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u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 champ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 bara de jab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371760" cy="2057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narse la rop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m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 pone la rop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 ir a escuel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276720" cy="2428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urante la noch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er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uer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 la cama. El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uermis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guid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2895480" cy="2017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46:59Z</dcterms:created>
  <dc:creator>ortizeli</dc:creator>
  <dc:description/>
  <dc:language>en-US</dc:language>
  <cp:lastModifiedBy>ortizeli</cp:lastModifiedBy>
  <dcterms:modified xsi:type="dcterms:W3CDTF">2012-04-05T15:28:52Z</dcterms:modified>
  <cp:revision>4</cp:revision>
  <dc:subject/>
  <dc:title>La Rutina</dc:title>
</cp:coreProperties>
</file>